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D6646-6C93-4353-908F-A7F8E6D2B46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rchaeology?:</a:t>
            </a:r>
            <a:br>
              <a:rPr sz="1200"/>
            </a:br>
            <a:r>
              <a:rPr b="0" lang="en-US" sz="1200" spc="-1" strike="noStrike">
                <a:solidFill>
                  <a:srgbClr val="000000"/>
                </a:solidFill>
                <a:latin typeface="Calibri"/>
              </a:rPr>
              <a:t>Studying Past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 and Cultur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y i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Archaeology?:</a:t>
            </a:r>
            <a:br>
              <a:rPr sz="1200"/>
            </a:br>
            <a:r>
              <a:rPr b="0" lang="en-US" sz="1200" spc="-1" strike="noStrike">
                <a:solidFill>
                  <a:srgbClr val="ffffff"/>
                </a:solidFill>
                <a:latin typeface="Times New Roman"/>
              </a:rPr>
              <a:t>Studying Past Cult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Cul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 and Culture Proc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oal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y in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ltur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at complex whole which includes knowledge, belief, art, morals, law, custom, and any other capabilities and habits acquired by a[person] as a member of society” Edward Ty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nonbiological means by which human societies adapt to and accomodate thei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is a society’s traditional system of beliefs and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human culture and animal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an animal dies, its experiences die with them.  But what about primate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Culture?</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r>
              <a:rPr b="0" lang="en-US" sz="1200" spc="-1" strike="noStrike">
                <a:solidFill>
                  <a:srgbClr val="ffffff"/>
                </a:solidFill>
                <a:latin typeface="Times New Roman"/>
              </a:rPr>
              <a:t>That complex whole which includes knowledge, belief, art, morals, law, custom, and any other capabilities and habits acquired by a[person] as a member of society” Edward Tyl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imary nonbiological means by which human societies adapt to and accomodate their environ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is a society’s traditional system of beliefs and 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difference between human culture and animal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when an animal dies, its experiences die with them.  But what about primate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lex system comprising a set of interacting variable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ial cus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is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lements function to maintain a commun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one element changes, others are e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study Cultural Systems in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Syste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omplex system comprising a set of interacting variables, includ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ial cus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sist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cial organ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elements function to maintain a commun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one element changes, others are effec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 we study Cultural Systems in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ial Cust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rial Custo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cial Organ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by which human societies changed in the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change was generally slow and gra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Proces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es by which human societies changed in the pas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change was generally slow and gradu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imary Proces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ven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u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g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tate Socie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do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Organized Socie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 Evolu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tate Societi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b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iefdom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e-Organized Societi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s of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Goal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ing Culture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nstructing Past Life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ing Cultur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ing Archaeology Relevant to the Pres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Goals of Archaeolog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ur Goal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udying Culture Hi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onstructing Past Lifew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laining Culture Ch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king Archaeology Relevant to the Pres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ing Culture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indian (15-10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ic (10-3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land (3-1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ssippian (1kya-500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World (Europe/Af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lithic (2 mya-10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olithic (10 kya-6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olithic (6 kya-4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nze Age (4 kya-2.5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on Age (2.5 k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udying Culture Hi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rth Americ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indian (15-10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ic (10-3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oodland (3-1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ssissippian (1kya-500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ld World (Europe/Afric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lithic (2 mya-10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solithic (10 kya-6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olithic (6 kya-4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ronze Age (4 kya-2.5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ron Age (2.5 ky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nstructing Past Life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intknapping-Making Stone 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dec.ny.gov/images/administration_images/0807flintknap.jp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onstructing Past Lifew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intknapping-Making Stone 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www.dec.ny.gov/images/administration_images/0807flintknap.jp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ing Cultur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xby Homesite: 1800-1845 The actual household objects of the Bixby house, the house itself with its outbuildings, and the surrounding New England landscape illustrate clearly the changes i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work in the first half of the 19th centu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laining Culture Ch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ixby Homesite: 1800-1845 The actual household objects of the Bixby house, the house itself with its outbuildings, and the surrounding New England landscape illustrate clearly the changes in socie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d in work in the first half of the 19th centur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amp; Relevance to the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pathology: A 20,000-Skeleton Perspective The diagnosis of various pathologies is a major tool for both archaeology and medicine. This 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amp; Relevance to the Pres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pathology: A 20,000-Skeleton Perspective The diagnosis of various pathologies is a major tool for both archaeology and medicine. This se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y in Archae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Histor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 Typ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olog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i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ory in Archaeolog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al-Historic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ro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 Typ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u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havi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perimental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t-processu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deologic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lig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mbolis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History-Pott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lture History-Potte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ual-Ethno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hnoarchaeology of the Kaling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ew of Dangtalan looking north. The irrigated fie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order the village on the east, west, and south. Notic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riability in house sizes as well as construction materials (e.g., thatch vs. corrugated iron sheets for the roof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sual-Ethno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thnoarchaeology of the Kaling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View of Dangtalan looking north. The irrigated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border the village on the east, west, and south. Notice th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variability in house sizes as well as construction materials (e.g., thatch vs. corrugated iron sheets for the roof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Processual-Imag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chen Itza- The player on the left holds the severed head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defeated player on the right. From the trunk spouts blood in the form of seven serpents. In the center is the b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ost-Processual-Image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ichen Itza- The player on the left holds the severed head o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defeated player on the right. From the trunk spouts blood in the form of seven serpents. In the center is the ba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Concep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ssils-Studied by Paleoanthrop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rved remains of creatures from the p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form when an organism dies, is buried, and over long periods of time the organic part decays and is replaced by mi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bones form st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ssil localities are where fossils are f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cal sites-Studied by 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s of past human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ettlements with ceremonial cen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hunting cam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ic Concep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ssils-Studied by Paleoanthrop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served remains of creatures from the pa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form when an organism dies, is buried, and over long periods of time the organic part decays and is replaced by miner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bones form st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ssil localities are where fossils are fou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cal sites-Studied by 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ces of past human ac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settlements with ceremonial cente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 hunting cam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s- Objects found and studied by archaeologists which have been made or modified by hum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ne tools, bone tools, pottery most comm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facts- nonartifactual remains found at archaeological sites, such as animals bones, shells, plant rem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provide ecological and subsistence inform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tures- Nonmoveable artifacts such as hearths, pits or house flo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reveal information such as settlement and subsis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r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s- Objects found and studied by archaeologists which have been made or modified by hum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ne tools, bone tools, pottery most comm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cofacts- nonartifactual remains found at archaeological sites, such as animals bones, shells, plant rema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nerally provide ecological and subsistence in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eatures- Nonmoveable artifacts such as hearths, pits or house flo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reveal information such as settlement and subsist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rtifacts context is it's specific location where it was found and how it relates to other artifacts arou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stone arrowhead is found with newspapers and plastic bottles, what would you conclude about the arrowheads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a pot on its own may tell you how it was made or what it was made from, but if it is removed from its context archaeologists have no idea what it was associated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artifacts context is it's specific location where it was found and how it relates to other artifacts around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 A stone arrowhead is found with newspapers and plastic bottles, what would you conclude about the arrowheads 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 a pot on its own may tell you how it was made or what it was made from, but if it is removed from its context archaeologists have no idea what it was associated wi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ing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ng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ident, Controlled Survey, Remote Sen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a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izontal, Vert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ing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on 14, Dendrochron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fac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e and Regional 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ing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cating Si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cident, Controlled Survey, Remote Sens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cav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rizontal, Vertic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ing Techniq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rbon 14, Dendrochro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tifact Analy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te and Regional Synthes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Anthropolog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y is anthropology or it is n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ors vs. Archaeolog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ors are after artifacts for money or for personal coll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ologists are after knowl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xt is the most important thing to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and space in which objects occur in the grou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 study of the past in this con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is Anthropology</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y is anthropology or it is noth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lectors vs. Archaeolog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llectors are after artifacts for money or for personal coll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aeologists are after knowled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text is the most important thing to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ime and space in which objects occur in the grou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atic study of the past in this cont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archae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use of written sources, architecture and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cal-recent historic times, may be text a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water archaeologists-study waterlogged sites or artifacts with special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historic-cultures before written rec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orld vs. Old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ypes of archae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lassical-use of written sources, architecture and ar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storical-recent historic times, may be text aid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derwater archaeologists-study waterlogged sites or artifacts with special techniq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ehistoric-cultures before written rec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 World vs. Old Worl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on particular artifacts or eco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oarchaeologists-animal bones from archaeological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hic analysts-stone t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leoethnobotanists-botanical remains, domest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archaeologists-human rem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a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te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is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earch on particular artifacts or ecofa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Zooarchaeologists-animal bones from archaeological si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thic analysts-stone too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aleoethnobotanists-botanical remains, domest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oarchaeologists-human rema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eramic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t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rchite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rit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tc., e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B8411-4FE5-45A7-A63E-F0823FD11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3ED22-2B91-488D-A6AE-49828C099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28F95-2ECF-43CC-9B0A-431AAFC71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325AB-B1F4-4E75-B256-0D3504787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F9B8AA-A4E3-4771-A1BC-8F9F52588C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4BC74-DDB4-402B-9667-1639F73FC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C3B10-3146-485E-A277-BBE667F5E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12AEE-7074-457B-915F-BE0A0DB33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070CA-C6B2-4C99-8688-99E767D4C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A4A0C-9756-4ADA-82C1-7D0D2DF92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3BECA-4322-4F4C-8952-754F51C34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F6379-6921-4676-9BEF-5087CD7B9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58AF5-E6E9-4794-8C6B-F7FDDFCB1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ABA04-C81D-46ED-8D5D-D036C9918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2AEF0-4960-4AC3-992F-4F1A8B39E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89EF9-E4A6-4019-B350-AE2C6AC618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FD1D97-3D67-4A72-9933-31D13776B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5FB53-D63F-4247-95E5-017B0E13D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FBF21-A87B-4631-87EE-130997CFB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6BCB3-E83B-4B6D-A368-1DEF0EA6C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71971-E530-444C-BF22-EB17852DA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E632C-D18E-4007-B491-257DC0F0A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A5577-D675-4052-8B5B-862637ABB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5DE06-5755-494C-8A4C-48E350B7C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C5781-B62D-48AA-A3A3-3FDA4A097B9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4"/>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5"/>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Freeform 6"/>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1B0E-D458-413D-A7F5-A131F4D030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990360"/>
            <a:ext cx="7721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is Archaeology?:</a:t>
            </a:r>
            <a:br>
              <a:rPr sz="4400"/>
            </a:br>
            <a:r>
              <a:rPr b="0" lang="en-US" sz="4400" spc="-1" strike="noStrike">
                <a:solidFill>
                  <a:srgbClr val="ffff00"/>
                </a:solidFill>
                <a:latin typeface="Times New Roman"/>
              </a:rPr>
              <a:t>Studying Past Cultures</a:t>
            </a:r>
            <a:endParaRPr b="0" lang="en-US" sz="4400" spc="-1" strike="noStrike">
              <a:solidFill>
                <a:srgbClr val="ffff00"/>
              </a:solidFill>
              <a:latin typeface="Times New Roman"/>
            </a:endParaRPr>
          </a:p>
        </p:txBody>
      </p:sp>
      <p:sp>
        <p:nvSpPr>
          <p:cNvPr id="100" name="PlaceHolder 2"/>
          <p:cNvSpPr>
            <a:spLocks noGrp="1"/>
          </p:cNvSpPr>
          <p:nvPr>
            <p:ph type="subTitle"/>
          </p:nvPr>
        </p:nvSpPr>
        <p:spPr>
          <a:xfrm>
            <a:off x="1625400" y="3352320"/>
            <a:ext cx="6908760" cy="2305080"/>
          </a:xfrm>
          <a:prstGeom prst="rect">
            <a:avLst/>
          </a:prstGeom>
          <a:noFill/>
          <a:ln w="0">
            <a:noFill/>
          </a:ln>
        </p:spPr>
        <p:txBody>
          <a:bodyPr lIns="92160" rIns="92160" tIns="46080" bIns="46080" anchor="t">
            <a:noAutofit/>
          </a:bodyPr>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hat is Culture?</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ultural Systems and Culture Process</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Goals of Archaeology</a:t>
            </a:r>
            <a:endParaRPr b="0" lang="en-US" sz="3200" spc="-1" strike="noStrike">
              <a:solidFill>
                <a:srgbClr val="ffffff"/>
              </a:solidFill>
              <a:latin typeface="Times New Roman"/>
            </a:endParaRPr>
          </a:p>
          <a:p>
            <a:pPr>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ory in Archaeology</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90600"/>
            <a:ext cx="7772400" cy="65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What is Culture?</a:t>
            </a:r>
            <a:br>
              <a:rPr sz="4400"/>
            </a:br>
            <a:endParaRPr b="0" lang="en-US" sz="4400" spc="-1" strike="noStrike">
              <a:solidFill>
                <a:srgbClr val="ffff00"/>
              </a:solidFill>
              <a:latin typeface="Times New Roman"/>
            </a:endParaRPr>
          </a:p>
        </p:txBody>
      </p:sp>
      <p:sp>
        <p:nvSpPr>
          <p:cNvPr id="128" name="PlaceHolder 2"/>
          <p:cNvSpPr>
            <a:spLocks noGrp="1"/>
          </p:cNvSpPr>
          <p:nvPr>
            <p:ph/>
          </p:nvPr>
        </p:nvSpPr>
        <p:spPr>
          <a:xfrm>
            <a:off x="1066320" y="990720"/>
            <a:ext cx="7620120" cy="4876560"/>
          </a:xfrm>
          <a:prstGeom prst="rect">
            <a:avLst/>
          </a:prstGeom>
          <a:noFill/>
          <a:ln w="0">
            <a:noFill/>
          </a:ln>
        </p:spPr>
        <p:txBody>
          <a:bodyPr anchor="t">
            <a:normAutofit fontScale="94000"/>
          </a:bodyPr>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t>
            </a:r>
            <a:r>
              <a:rPr b="0" lang="en-US" sz="2800" spc="-1" strike="noStrike">
                <a:solidFill>
                  <a:srgbClr val="ffffff"/>
                </a:solidFill>
                <a:latin typeface="Times New Roman"/>
                <a:ea typeface="Times New Roman"/>
              </a:rPr>
              <a:t>That complex whole which includes knowledge, belief, art, morals, law, custom, and any other capabilities and habits acquired by a[person] as a member of society” Edward Tylor</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imary nonbiological means by which human societies adapt to and accomodate their environment.</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e is a society’s traditional system of beliefs and behavior.</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at is the difference between human culture and animal societies?</a:t>
            </a:r>
            <a:endParaRPr b="0" lang="en-US" sz="2800" spc="-1" strike="noStrike">
              <a:solidFill>
                <a:srgbClr val="ffffff"/>
              </a:solidFill>
              <a:latin typeface="Times New Roman"/>
            </a:endParaRPr>
          </a:p>
          <a:p>
            <a:pPr marL="322200" indent="-32220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e. when an animal dies, its experiences die with them.  But what about primate societies?</a:t>
            </a:r>
            <a:endParaRPr b="0" lang="en-US" sz="2800" spc="-1" strike="noStrike">
              <a:solidFill>
                <a:srgbClr val="ffffff"/>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al Systems</a:t>
            </a: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641240"/>
            <a:ext cx="7772400" cy="4454280"/>
          </a:xfrm>
          <a:prstGeom prst="rect">
            <a:avLst/>
          </a:prstGeom>
          <a:noFill/>
          <a:ln w="0">
            <a:noFill/>
          </a:ln>
        </p:spPr>
        <p:txBody>
          <a:bodyPr anchor="t">
            <a:normAutofit fontScale="97000"/>
          </a:bodyPr>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al Systems</a:t>
            </a:r>
            <a:endParaRPr b="0" lang="en-US" sz="28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complex system comprising a set of interacting variables, including:</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ols</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urial customs</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ubsistence</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ligion</a:t>
            </a:r>
            <a:endParaRPr b="0" lang="en-US" sz="20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ocial organization</a:t>
            </a:r>
            <a:endParaRPr b="0" lang="en-US" sz="20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se elements function to maintain a community</a:t>
            </a:r>
            <a:r>
              <a:rPr b="0" lang="en-US" sz="2400" spc="-1" strike="noStrike">
                <a:solidFill>
                  <a:srgbClr val="ffffff"/>
                </a:solidFill>
                <a:latin typeface="Times New Roman"/>
                <a:ea typeface="Arial"/>
              </a:rPr>
              <a:t> </a:t>
            </a: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en one element changes, others are effected</a:t>
            </a:r>
            <a:endParaRPr b="0" lang="en-US" sz="2400" spc="-1" strike="noStrike">
              <a:solidFill>
                <a:srgbClr val="ffffff"/>
              </a:solidFill>
              <a:latin typeface="Times New Roman"/>
            </a:endParaRPr>
          </a:p>
          <a:p>
            <a:pPr marL="332640" indent="-33264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ow do we study Cultural Systems in Archaeology?</a:t>
            </a:r>
            <a:endParaRPr b="0" lang="en-US" sz="2800" spc="-1" strike="noStrike">
              <a:solidFill>
                <a:srgbClr val="ffffff"/>
              </a:solidFill>
              <a:latin typeface="Times New Roman"/>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s</a:t>
            </a:r>
            <a:endParaRPr b="0" lang="en-US" sz="4400" spc="-1" strike="noStrike">
              <a:solidFill>
                <a:srgbClr val="ffff00"/>
              </a:solidFill>
              <a:latin typeface="Times New Roman"/>
            </a:endParaRPr>
          </a:p>
        </p:txBody>
      </p:sp>
      <p:pic>
        <p:nvPicPr>
          <p:cNvPr id="134" name="Picture 5" descr="stonetools"/>
          <p:cNvPicPr/>
          <p:nvPr/>
        </p:nvPicPr>
        <p:blipFill>
          <a:blip r:embed="rId1"/>
          <a:stretch/>
        </p:blipFill>
        <p:spPr>
          <a:xfrm>
            <a:off x="914400" y="1371600"/>
            <a:ext cx="7543800" cy="485316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urial Customs</a:t>
            </a:r>
            <a:endParaRPr b="0" lang="en-US" sz="4400" spc="-1" strike="noStrike">
              <a:solidFill>
                <a:srgbClr val="ffff00"/>
              </a:solidFill>
              <a:latin typeface="Times New Roman"/>
            </a:endParaRPr>
          </a:p>
        </p:txBody>
      </p:sp>
      <p:pic>
        <p:nvPicPr>
          <p:cNvPr id="137" name="Picture 4" descr="burial"/>
          <p:cNvPicPr/>
          <p:nvPr/>
        </p:nvPicPr>
        <p:blipFill>
          <a:blip r:embed="rId1">
            <a:lum contrast="36000"/>
          </a:blip>
          <a:stretch/>
        </p:blipFill>
        <p:spPr>
          <a:xfrm>
            <a:off x="457200" y="1371600"/>
            <a:ext cx="3276720" cy="2224080"/>
          </a:xfrm>
          <a:prstGeom prst="rect">
            <a:avLst/>
          </a:prstGeom>
          <a:ln w="0">
            <a:noFill/>
          </a:ln>
        </p:spPr>
      </p:pic>
      <p:pic>
        <p:nvPicPr>
          <p:cNvPr id="138" name="Picture 5" descr="burial2"/>
          <p:cNvPicPr/>
          <p:nvPr/>
        </p:nvPicPr>
        <p:blipFill>
          <a:blip r:embed="rId2"/>
          <a:stretch/>
        </p:blipFill>
        <p:spPr>
          <a:xfrm>
            <a:off x="4724280" y="1371600"/>
            <a:ext cx="3319560" cy="2192400"/>
          </a:xfrm>
          <a:prstGeom prst="rect">
            <a:avLst/>
          </a:prstGeom>
          <a:ln w="0">
            <a:noFill/>
          </a:ln>
        </p:spPr>
      </p:pic>
      <p:pic>
        <p:nvPicPr>
          <p:cNvPr id="139" name="Picture 6" descr="burial3"/>
          <p:cNvPicPr/>
          <p:nvPr/>
        </p:nvPicPr>
        <p:blipFill>
          <a:blip r:embed="rId3"/>
          <a:stretch/>
        </p:blipFill>
        <p:spPr>
          <a:xfrm>
            <a:off x="533520" y="4114800"/>
            <a:ext cx="3352680" cy="2087640"/>
          </a:xfrm>
          <a:prstGeom prst="rect">
            <a:avLst/>
          </a:prstGeom>
          <a:ln w="0">
            <a:noFill/>
          </a:ln>
        </p:spPr>
      </p:pic>
      <p:pic>
        <p:nvPicPr>
          <p:cNvPr id="140" name="Picture 7" descr="dogburial"/>
          <p:cNvPicPr/>
          <p:nvPr/>
        </p:nvPicPr>
        <p:blipFill>
          <a:blip r:embed="rId4"/>
          <a:stretch/>
        </p:blipFill>
        <p:spPr>
          <a:xfrm>
            <a:off x="4876920" y="4038480"/>
            <a:ext cx="3276360" cy="214812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igion</a:t>
            </a:r>
            <a:endParaRPr b="0" lang="en-US" sz="4400" spc="-1" strike="noStrike">
              <a:solidFill>
                <a:srgbClr val="ffff00"/>
              </a:solidFill>
              <a:latin typeface="Times New Roman"/>
            </a:endParaRPr>
          </a:p>
        </p:txBody>
      </p:sp>
      <p:pic>
        <p:nvPicPr>
          <p:cNvPr id="143" name="Picture 4" descr="Shellobject"/>
          <p:cNvPicPr/>
          <p:nvPr/>
        </p:nvPicPr>
        <p:blipFill>
          <a:blip r:embed="rId1"/>
          <a:stretch/>
        </p:blipFill>
        <p:spPr>
          <a:xfrm>
            <a:off x="2133720" y="1371600"/>
            <a:ext cx="5562360" cy="517032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cial Organization</a:t>
            </a:r>
            <a:endParaRPr b="0" lang="en-US" sz="4400" spc="-1" strike="noStrike">
              <a:solidFill>
                <a:srgbClr val="ffff00"/>
              </a:solidFill>
              <a:latin typeface="Times New Roman"/>
            </a:endParaRPr>
          </a:p>
        </p:txBody>
      </p:sp>
      <p:pic>
        <p:nvPicPr>
          <p:cNvPr id="146" name="Picture 3" descr="Teotihuacan"/>
          <p:cNvPicPr/>
          <p:nvPr/>
        </p:nvPicPr>
        <p:blipFill>
          <a:blip r:embed="rId1"/>
          <a:stretch/>
        </p:blipFill>
        <p:spPr>
          <a:xfrm>
            <a:off x="1447920" y="1600200"/>
            <a:ext cx="6629400" cy="451008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e Proces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ocesses by which human societies changed in the pas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ulture change was generally slow and gradual.</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imary Processes:</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vent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iffusio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igration</a:t>
            </a:r>
            <a:endParaRPr b="0" lang="en-US" sz="28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ultural Evolu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estate Societi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and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rib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hiefdom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tate-Organized Societie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he Goals of Archaeolog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our Goals of Archaeology</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tudying Culture Histor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constructing Past Lifeway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xplaining Culture Chang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king Archaeology Relevant to the Present</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udying Culture History</a:t>
            </a:r>
            <a:endParaRPr b="0" lang="en-US" sz="4400" spc="-1" strike="noStrike">
              <a:solidFill>
                <a:srgbClr val="ffff00"/>
              </a:solidFill>
              <a:latin typeface="Times New Roman"/>
            </a:endParaRPr>
          </a:p>
        </p:txBody>
      </p:sp>
      <p:sp>
        <p:nvSpPr>
          <p:cNvPr id="158" name="PlaceHolder 2"/>
          <p:cNvSpPr>
            <a:spLocks noGrp="1"/>
          </p:cNvSpPr>
          <p:nvPr>
            <p:ph/>
          </p:nvPr>
        </p:nvSpPr>
        <p:spPr>
          <a:xfrm>
            <a:off x="0" y="1641240"/>
            <a:ext cx="44956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rth Americ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leoindian (15-10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ic (10-3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odland (3-1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ssissippian (1kya-500ya)</a:t>
            </a:r>
            <a:endParaRPr b="0" lang="en-US" sz="2800" spc="-1" strike="noStrike">
              <a:solidFill>
                <a:srgbClr val="ffffff"/>
              </a:solidFill>
              <a:latin typeface="Times New Roman"/>
            </a:endParaRPr>
          </a:p>
        </p:txBody>
      </p:sp>
      <p:sp>
        <p:nvSpPr>
          <p:cNvPr id="159" name="PlaceHolder 3"/>
          <p:cNvSpPr>
            <a:spLocks noGrp="1"/>
          </p:cNvSpPr>
          <p:nvPr>
            <p:ph/>
          </p:nvPr>
        </p:nvSpPr>
        <p:spPr>
          <a:xfrm>
            <a:off x="4419360" y="1641240"/>
            <a:ext cx="4724280" cy="4454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ld World (Europe/Afric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leolithic (2 mya-10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solithic (10 kya-6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olithic (6 kya-4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nze Age (4 kya-2.5 kya)</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ron Age (2.5 kya--)</a:t>
            </a:r>
            <a:endParaRPr b="0" lang="en-US" sz="2800" spc="-1" strike="noStrike">
              <a:solidFill>
                <a:srgbClr val="ffffff"/>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228600"/>
            <a:ext cx="80773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rchaeologists?</a:t>
            </a:r>
            <a:endParaRPr b="0" lang="en-US" sz="3600" spc="-1" strike="noStrike">
              <a:solidFill>
                <a:srgbClr val="ffff00"/>
              </a:solidFill>
              <a:latin typeface="Times New Roman"/>
            </a:endParaRPr>
          </a:p>
        </p:txBody>
      </p:sp>
      <p:pic>
        <p:nvPicPr>
          <p:cNvPr id="103" name="Picture 4" descr="MVC-012S"/>
          <p:cNvPicPr/>
          <p:nvPr/>
        </p:nvPicPr>
        <p:blipFill>
          <a:blip r:embed="rId1"/>
          <a:stretch/>
        </p:blipFill>
        <p:spPr>
          <a:xfrm>
            <a:off x="4800600" y="1219320"/>
            <a:ext cx="2932200" cy="5105160"/>
          </a:xfrm>
          <a:prstGeom prst="rect">
            <a:avLst/>
          </a:prstGeom>
          <a:ln w="0">
            <a:noFill/>
          </a:ln>
        </p:spPr>
      </p:pic>
      <p:pic>
        <p:nvPicPr>
          <p:cNvPr id="104" name="Picture 6" descr="splash_02"/>
          <p:cNvPicPr/>
          <p:nvPr/>
        </p:nvPicPr>
        <p:blipFill>
          <a:blip r:embed="rId2"/>
          <a:stretch/>
        </p:blipFill>
        <p:spPr>
          <a:xfrm>
            <a:off x="990720" y="1295280"/>
            <a:ext cx="2698560" cy="510552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onstructing Past Lifeways</a:t>
            </a:r>
            <a:endParaRPr b="0" lang="en-US" sz="4400" spc="-1" strike="noStrike">
              <a:solidFill>
                <a:srgbClr val="ffff00"/>
              </a:solidFill>
              <a:latin typeface="Times New Roman"/>
            </a:endParaRPr>
          </a:p>
        </p:txBody>
      </p:sp>
      <p:sp>
        <p:nvSpPr>
          <p:cNvPr id="162" name="TextBox 8"/>
          <p:cNvSpPr/>
          <p:nvPr/>
        </p:nvSpPr>
        <p:spPr>
          <a:xfrm>
            <a:off x="2367000" y="5105520"/>
            <a:ext cx="448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lintknapping-Making Stone Tools</a:t>
            </a:r>
            <a:endParaRPr b="0" lang="en-US" sz="2400" spc="-1" strike="noStrike">
              <a:solidFill>
                <a:srgbClr val="ffffff"/>
              </a:solidFill>
              <a:latin typeface="Times New Roman"/>
            </a:endParaRPr>
          </a:p>
        </p:txBody>
      </p:sp>
      <p:pic>
        <p:nvPicPr>
          <p:cNvPr id="163" name="Picture 8" descr="http://www.dec.ny.gov/images/administration_images/0807flintknap.jpg"/>
          <p:cNvPicPr/>
          <p:nvPr/>
        </p:nvPicPr>
        <p:blipFill>
          <a:blip r:embed="rId1"/>
          <a:stretch/>
        </p:blipFill>
        <p:spPr>
          <a:xfrm>
            <a:off x="2057400" y="1371600"/>
            <a:ext cx="4762440" cy="3191040"/>
          </a:xfrm>
          <a:prstGeom prst="rect">
            <a:avLst/>
          </a:prstGeom>
          <a:ln w="0">
            <a:noFill/>
          </a:ln>
        </p:spPr>
      </p:pic>
      <p:sp>
        <p:nvSpPr>
          <p:cNvPr id="164" name="Rectangle 10"/>
          <p:cNvSpPr/>
          <p:nvPr/>
        </p:nvSpPr>
        <p:spPr>
          <a:xfrm>
            <a:off x="2209680" y="6595920"/>
            <a:ext cx="4572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http://www.dec.ny.gov/images/administration_images/0807flintknap.jpg</a:t>
            </a:r>
            <a:endParaRPr b="0" lang="en-US" sz="1100" spc="-1" strike="noStrike">
              <a:solidFill>
                <a:srgbClr val="ffffff"/>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Explaining Culture Change</a:t>
            </a:r>
            <a:endParaRPr b="0" lang="en-US" sz="4400" spc="-1" strike="noStrike">
              <a:solidFill>
                <a:srgbClr val="ffff00"/>
              </a:solidFill>
              <a:latin typeface="Times New Roman"/>
            </a:endParaRPr>
          </a:p>
        </p:txBody>
      </p:sp>
      <p:pic>
        <p:nvPicPr>
          <p:cNvPr id="167" name="Picture 3" descr="Historical"/>
          <p:cNvPicPr/>
          <p:nvPr/>
        </p:nvPicPr>
        <p:blipFill>
          <a:blip r:embed="rId1"/>
          <a:stretch/>
        </p:blipFill>
        <p:spPr>
          <a:xfrm>
            <a:off x="1447920" y="1066680"/>
            <a:ext cx="6400800" cy="4095720"/>
          </a:xfrm>
          <a:prstGeom prst="rect">
            <a:avLst/>
          </a:prstGeom>
          <a:ln w="0">
            <a:noFill/>
          </a:ln>
        </p:spPr>
      </p:pic>
      <p:sp>
        <p:nvSpPr>
          <p:cNvPr id="168" name="Text Box 4"/>
          <p:cNvSpPr/>
          <p:nvPr/>
        </p:nvSpPr>
        <p:spPr>
          <a:xfrm>
            <a:off x="228600" y="530532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Bixby Homesite: 1800-1845 The actual household objects of the Bixby house, the house itself with its outbuildings, and the surrounding New England landscape illustrate clearly the changes in societ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in work in the first half of the 19th century. </a:t>
            </a:r>
            <a:endParaRPr b="0" lang="en-US" sz="2400" spc="-1" strike="noStrike">
              <a:solidFill>
                <a:srgbClr val="ffffff"/>
              </a:solidFill>
              <a:latin typeface="Times New Roman"/>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0"/>
            <a:ext cx="96775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Archaeology &amp; Relevance to the Present</a:t>
            </a:r>
            <a:endParaRPr b="0" lang="en-US" sz="4400" spc="-1" strike="noStrike">
              <a:solidFill>
                <a:srgbClr val="ffff00"/>
              </a:solidFill>
              <a:latin typeface="Times New Roman"/>
            </a:endParaRPr>
          </a:p>
        </p:txBody>
      </p:sp>
      <p:pic>
        <p:nvPicPr>
          <p:cNvPr id="171" name="Picture 3" descr="Paleopathology"/>
          <p:cNvPicPr/>
          <p:nvPr/>
        </p:nvPicPr>
        <p:blipFill>
          <a:blip r:embed="rId1"/>
          <a:stretch/>
        </p:blipFill>
        <p:spPr>
          <a:xfrm>
            <a:off x="1676520" y="914400"/>
            <a:ext cx="5135400" cy="3429000"/>
          </a:xfrm>
          <a:prstGeom prst="rect">
            <a:avLst/>
          </a:prstGeom>
          <a:ln w="0">
            <a:noFill/>
          </a:ln>
        </p:spPr>
      </p:pic>
      <p:sp>
        <p:nvSpPr>
          <p:cNvPr id="172" name="Text Box 4"/>
          <p:cNvSpPr/>
          <p:nvPr/>
        </p:nvSpPr>
        <p:spPr>
          <a:xfrm>
            <a:off x="0" y="457524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eopathology: A 20,000-Skeleton Perspective The diagnosis of various pathologies is a major tool for both archaeology and medicine. This se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llustrates disease phenomena which are reproducible across geographic and even species lines. The antiquity of one disease -- rheumatoid arthritis -- varies geographically, possible evidence for its origin as vector-transmitted and for speculation about human behavior.</a:t>
            </a:r>
            <a:endParaRPr b="0" lang="en-US" sz="2400" spc="-1" strike="noStrike">
              <a:solidFill>
                <a:srgbClr val="ffffff"/>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heory in Archaeolog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7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al-Historic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onology</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ifact Typology</a:t>
            </a:r>
            <a:endParaRPr b="0" lang="en-US" sz="24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ocessu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mental Archaeology</a:t>
            </a:r>
            <a:endParaRPr b="0" lang="en-US" sz="24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ost-processual</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ologica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igion</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mbolism</a:t>
            </a:r>
            <a:endParaRPr b="0" lang="en-US" sz="2400" spc="-1" strike="noStrike">
              <a:solidFill>
                <a:srgbClr val="ffffff"/>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ulture History-Pottery</a:t>
            </a:r>
            <a:endParaRPr b="0" lang="en-US" sz="4400" spc="-1" strike="noStrike">
              <a:solidFill>
                <a:srgbClr val="ffff00"/>
              </a:solidFill>
              <a:latin typeface="Times New Roman"/>
            </a:endParaRPr>
          </a:p>
        </p:txBody>
      </p:sp>
      <p:pic>
        <p:nvPicPr>
          <p:cNvPr id="178" name="Picture 4" descr="pottery2"/>
          <p:cNvPicPr/>
          <p:nvPr/>
        </p:nvPicPr>
        <p:blipFill>
          <a:blip r:embed="rId1"/>
          <a:stretch/>
        </p:blipFill>
        <p:spPr>
          <a:xfrm>
            <a:off x="4537080" y="3405240"/>
            <a:ext cx="68400" cy="46080"/>
          </a:xfrm>
          <a:prstGeom prst="rect">
            <a:avLst/>
          </a:prstGeom>
          <a:ln w="0">
            <a:noFill/>
          </a:ln>
        </p:spPr>
      </p:pic>
      <p:pic>
        <p:nvPicPr>
          <p:cNvPr id="179" name="Picture 5" descr="pottery1"/>
          <p:cNvPicPr/>
          <p:nvPr/>
        </p:nvPicPr>
        <p:blipFill>
          <a:blip r:embed="rId2"/>
          <a:stretch/>
        </p:blipFill>
        <p:spPr>
          <a:xfrm>
            <a:off x="838080" y="1447920"/>
            <a:ext cx="2819520" cy="1914480"/>
          </a:xfrm>
          <a:prstGeom prst="rect">
            <a:avLst/>
          </a:prstGeom>
          <a:ln w="0">
            <a:noFill/>
          </a:ln>
        </p:spPr>
      </p:pic>
      <p:pic>
        <p:nvPicPr>
          <p:cNvPr id="180" name="Picture 6" descr="pottery2"/>
          <p:cNvPicPr/>
          <p:nvPr/>
        </p:nvPicPr>
        <p:blipFill>
          <a:blip r:embed="rId3"/>
          <a:stretch/>
        </p:blipFill>
        <p:spPr>
          <a:xfrm>
            <a:off x="4800600" y="1447920"/>
            <a:ext cx="2938320" cy="1995480"/>
          </a:xfrm>
          <a:prstGeom prst="rect">
            <a:avLst/>
          </a:prstGeom>
          <a:ln w="0">
            <a:noFill/>
          </a:ln>
        </p:spPr>
      </p:pic>
      <p:pic>
        <p:nvPicPr>
          <p:cNvPr id="181" name="Picture 7" descr="pottery3"/>
          <p:cNvPicPr/>
          <p:nvPr/>
        </p:nvPicPr>
        <p:blipFill>
          <a:blip r:embed="rId4"/>
          <a:stretch/>
        </p:blipFill>
        <p:spPr>
          <a:xfrm>
            <a:off x="1066680" y="4038480"/>
            <a:ext cx="3013200" cy="1876680"/>
          </a:xfrm>
          <a:prstGeom prst="rect">
            <a:avLst/>
          </a:prstGeom>
          <a:ln w="0">
            <a:noFill/>
          </a:ln>
        </p:spPr>
      </p:pic>
      <p:pic>
        <p:nvPicPr>
          <p:cNvPr id="182" name="Picture 8" descr="pottery4"/>
          <p:cNvPicPr/>
          <p:nvPr/>
        </p:nvPicPr>
        <p:blipFill>
          <a:blip r:embed="rId5"/>
          <a:stretch/>
        </p:blipFill>
        <p:spPr>
          <a:xfrm>
            <a:off x="5105520" y="3657600"/>
            <a:ext cx="2557440" cy="255744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ual-Ethnoarchaeology</a:t>
            </a:r>
            <a:endParaRPr b="0" lang="en-US" sz="4400" spc="-1" strike="noStrike">
              <a:solidFill>
                <a:srgbClr val="ffff00"/>
              </a:solidFill>
              <a:latin typeface="Times New Roman"/>
            </a:endParaRPr>
          </a:p>
        </p:txBody>
      </p:sp>
      <p:pic>
        <p:nvPicPr>
          <p:cNvPr id="185" name="Picture 3" descr="Ethnoarch"/>
          <p:cNvPicPr/>
          <p:nvPr/>
        </p:nvPicPr>
        <p:blipFill>
          <a:blip r:embed="rId1"/>
          <a:stretch/>
        </p:blipFill>
        <p:spPr>
          <a:xfrm>
            <a:off x="1600200" y="838080"/>
            <a:ext cx="6019920" cy="4081680"/>
          </a:xfrm>
          <a:prstGeom prst="rect">
            <a:avLst/>
          </a:prstGeom>
          <a:ln w="0">
            <a:noFill/>
          </a:ln>
        </p:spPr>
      </p:pic>
      <p:sp>
        <p:nvSpPr>
          <p:cNvPr id="186" name="Text Box 4"/>
          <p:cNvSpPr/>
          <p:nvPr/>
        </p:nvSpPr>
        <p:spPr>
          <a:xfrm>
            <a:off x="990720" y="4940280"/>
            <a:ext cx="7621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hnoarchaeology of the Kaling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iew of Dangtalan looking north. The irrigated fie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order the village on the east, west, and south. Notice th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ariability in house sizes as well as construction materials (e.g., thatch vs. corrugated iron sheets for the roofs).</a:t>
            </a:r>
            <a:endParaRPr b="0" lang="en-US" sz="2400" spc="-1" strike="noStrike">
              <a:solidFill>
                <a:srgbClr val="ffffff"/>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6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st-Processual-Imagery</a:t>
            </a:r>
            <a:endParaRPr b="0" lang="en-US" sz="4400" spc="-1" strike="noStrike">
              <a:solidFill>
                <a:srgbClr val="ffff00"/>
              </a:solidFill>
              <a:latin typeface="Times New Roman"/>
            </a:endParaRPr>
          </a:p>
        </p:txBody>
      </p:sp>
      <p:pic>
        <p:nvPicPr>
          <p:cNvPr id="189" name="Picture 3" descr="Chichenfrieze"/>
          <p:cNvPicPr/>
          <p:nvPr/>
        </p:nvPicPr>
        <p:blipFill>
          <a:blip r:embed="rId1"/>
          <a:stretch/>
        </p:blipFill>
        <p:spPr>
          <a:xfrm>
            <a:off x="1143000" y="762120"/>
            <a:ext cx="7010280" cy="4705200"/>
          </a:xfrm>
          <a:prstGeom prst="rect">
            <a:avLst/>
          </a:prstGeom>
          <a:ln w="0">
            <a:noFill/>
          </a:ln>
        </p:spPr>
      </p:pic>
      <p:sp>
        <p:nvSpPr>
          <p:cNvPr id="190" name="Text Box 4"/>
          <p:cNvSpPr/>
          <p:nvPr/>
        </p:nvSpPr>
        <p:spPr>
          <a:xfrm>
            <a:off x="762120" y="567072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chen Itza- The player on the left holds the severed head of</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defeated player on the right. From the trunk spouts blood in the form of seven serpents. In the center is the ball. </a:t>
            </a:r>
            <a:endParaRPr b="0" lang="en-US" sz="2400" spc="-1" strike="noStrike">
              <a:solidFill>
                <a:srgbClr val="ffffff"/>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sic Concepts</a:t>
            </a:r>
            <a:endParaRPr b="0" lang="en-US" sz="4400" spc="-1" strike="noStrike">
              <a:solidFill>
                <a:srgbClr val="ffff00"/>
              </a:solidFill>
              <a:latin typeface="Times New Roman"/>
            </a:endParaRPr>
          </a:p>
        </p:txBody>
      </p:sp>
      <p:sp>
        <p:nvSpPr>
          <p:cNvPr id="107" name="PlaceHolder 2"/>
          <p:cNvSpPr>
            <a:spLocks noGrp="1"/>
          </p:cNvSpPr>
          <p:nvPr>
            <p:ph/>
          </p:nvPr>
        </p:nvSpPr>
        <p:spPr>
          <a:xfrm>
            <a:off x="455400" y="1598760"/>
            <a:ext cx="8226360" cy="503064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ssils-Studied by Paleoanthropologist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erved remains of creatures from the pas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y form when an organism dies, is buried, and over long periods of time the organic part decays and is replaced by mineral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 bones form ston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ssil localities are where fossils are found.</a:t>
            </a:r>
            <a:endParaRPr b="0" lang="en-US" sz="24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eological sites-Studied by Archaeologist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s of past human activity.</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rge settlements with ceremonial centers.</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all hunting camps.</a:t>
            </a:r>
            <a:endParaRPr b="0" lang="en-US" sz="2400" spc="-1" strike="noStrike">
              <a:solidFill>
                <a:srgbClr val="ffff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rms</a:t>
            </a:r>
            <a:endParaRPr b="0" lang="en-US" sz="4400" spc="-1" strike="noStrike">
              <a:solidFill>
                <a:srgbClr val="ffff00"/>
              </a:solidFill>
              <a:latin typeface="Times New Roman"/>
            </a:endParaRPr>
          </a:p>
        </p:txBody>
      </p:sp>
      <p:sp>
        <p:nvSpPr>
          <p:cNvPr id="110" name="PlaceHolder 2"/>
          <p:cNvSpPr>
            <a:spLocks noGrp="1"/>
          </p:cNvSpPr>
          <p:nvPr>
            <p:ph/>
          </p:nvPr>
        </p:nvSpPr>
        <p:spPr>
          <a:xfrm>
            <a:off x="455400" y="1598760"/>
            <a:ext cx="8226360" cy="5030640"/>
          </a:xfrm>
          <a:prstGeom prst="rect">
            <a:avLst/>
          </a:prstGeom>
          <a:noFill/>
          <a:ln w="0">
            <a:noFill/>
          </a:ln>
        </p:spPr>
        <p:txBody>
          <a:bodyPr anchor="t">
            <a:normAutofit/>
          </a:bodyPr>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tifacts- Objects found and studied by archaeologists which have been made or modified by humans.</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one tools, bone tools, pottery most common.</a:t>
            </a:r>
            <a:endParaRPr b="0" lang="en-US" sz="2400" spc="-1" strike="noStrike">
              <a:solidFill>
                <a:srgbClr val="ffffff"/>
              </a:solidFill>
              <a:latin typeface="Times New Roman"/>
            </a:endParaRPr>
          </a:p>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cofacts- nonartifactual remains found at archaeological sites, such as animals bones, shells, plant remains.</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provide ecological and subsistence information. </a:t>
            </a:r>
            <a:endParaRPr b="0" lang="en-US" sz="2400" spc="-1" strike="noStrike">
              <a:solidFill>
                <a:srgbClr val="ffffff"/>
              </a:solidFill>
              <a:latin typeface="Times New Roman"/>
            </a:endParaRPr>
          </a:p>
          <a:p>
            <a:pPr marL="343080" indent="-343080">
              <a:lnSpc>
                <a:spcPct val="8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atures- Nonmoveable artifacts such as hearths, pits or house floors. </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reveal information such as settlement and subsistence.</a:t>
            </a:r>
            <a:endParaRPr b="0" lang="en-US" sz="2400" spc="-1" strike="noStrike">
              <a:solidFill>
                <a:srgbClr val="ffffff"/>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text</a:t>
            </a:r>
            <a:endParaRPr b="0" lang="en-US" sz="4400" spc="-1" strike="noStrike">
              <a:solidFill>
                <a:srgbClr val="ffff00"/>
              </a:solidFill>
              <a:latin typeface="Times New Roman"/>
            </a:endParaRPr>
          </a:p>
        </p:txBody>
      </p:sp>
      <p:sp>
        <p:nvSpPr>
          <p:cNvPr id="11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rtifacts context is it's specific location where it was found and how it relates to other artifacts around i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 A stone arrowhead is found with newspapers and plastic bottles, what would you conclude about the arrowheads context?</a:t>
            </a:r>
            <a:endParaRPr b="0" lang="en-US" sz="24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 a pot on its own may tell you how it was made or what it was made from, but if it is removed from its context archaeologists have no idea what it was associated with.</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oing Archaeology</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641240"/>
            <a:ext cx="7772400" cy="4454280"/>
          </a:xfrm>
          <a:prstGeom prst="rect">
            <a:avLst/>
          </a:prstGeom>
          <a:noFill/>
          <a:ln w="0">
            <a:noFill/>
          </a:ln>
        </p:spPr>
        <p:txBody>
          <a:bodyPr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cating Sites</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ident, Controlled Survey, Remote Sensing</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avation </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rizontal, Vertical</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ing Techniques</a:t>
            </a:r>
            <a:endParaRPr b="0" lang="en-US" sz="3200" spc="-1" strike="noStrike">
              <a:solidFill>
                <a:srgbClr val="ffffff"/>
              </a:solidFill>
              <a:latin typeface="Times New Roman"/>
            </a:endParaRPr>
          </a:p>
          <a:p>
            <a:pPr lvl="1" marL="735480" indent="-2829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bon 14, Dendrochronology</a:t>
            </a:r>
            <a:endParaRPr b="0" lang="en-US" sz="28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ifact Analysis</a:t>
            </a:r>
            <a:endParaRPr b="0" lang="en-US" sz="32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te and Regional Synthesis</a:t>
            </a:r>
            <a:endParaRPr b="0" lang="en-US" sz="3200" spc="-1" strike="noStrike">
              <a:solidFill>
                <a:srgbClr val="ffffff"/>
              </a:solidFill>
              <a:latin typeface="Times New Roman"/>
            </a:endParaRPr>
          </a:p>
        </p:txBody>
      </p:sp>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rchaeology is Anthropology</a:t>
            </a:r>
            <a:br>
              <a:rPr sz="4000"/>
            </a:br>
            <a:endParaRPr b="0" lang="en-US" sz="4000" spc="-1" strike="noStrike">
              <a:solidFill>
                <a:srgbClr val="ffff00"/>
              </a:solidFill>
              <a:latin typeface="Times New Roman"/>
            </a:endParaRPr>
          </a:p>
        </p:txBody>
      </p:sp>
      <p:sp>
        <p:nvSpPr>
          <p:cNvPr id="11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aeology is anthropology or it is nothing.</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ectors vs. Archaeologists</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ctors are after artifacts for money or for personal collections.</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chaeologists are after knowledge.</a:t>
            </a:r>
            <a:endParaRPr b="0" lang="en-US" sz="20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ext is the most important thing to archaeology.</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ime and space in which objects occur in the ground.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atic study of the past in this context.</a:t>
            </a:r>
            <a:endParaRPr b="0" lang="en-US" sz="2400" spc="-1" strike="noStrike">
              <a:solidFill>
                <a:srgbClr val="ffffff"/>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ypes of archaeology</a:t>
            </a:r>
            <a:endParaRPr b="0" lang="en-US" sz="4400" spc="-1" strike="noStrike">
              <a:solidFill>
                <a:srgbClr val="ffff00"/>
              </a:solidFill>
              <a:latin typeface="Times New Roman"/>
            </a:endParaRPr>
          </a:p>
        </p:txBody>
      </p:sp>
      <p:sp>
        <p:nvSpPr>
          <p:cNvPr id="12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ical-use of written sources, architecture and art.</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recent historic times, may be text aided.</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derwater archaeologists-study waterlogged sites or artifacts with special technique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historic-cultures before written records.</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World vs. Old World</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pecialists</a:t>
            </a:r>
            <a:endParaRPr b="0" lang="en-US" sz="4400" spc="-1" strike="noStrike">
              <a:solidFill>
                <a:srgbClr val="ffff00"/>
              </a:solidFill>
              <a:latin typeface="Times New Roman"/>
            </a:endParaRPr>
          </a:p>
        </p:txBody>
      </p:sp>
      <p:sp>
        <p:nvSpPr>
          <p:cNvPr id="125"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arch on particular artifacts or ecofact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ooarchaeologists-animal bones from archaeological site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thic analysts-stone tool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leoethnobotanists-botanical remains, domestication.</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oarchaeologists-human remain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ramic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ls</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itecture</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ing</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c., etc.</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30T13:34:56Z</dcterms:created>
  <dc:creator>Bella</dc:creator>
  <dc:description/>
  <dc:language>en-US</dc:language>
  <cp:lastModifiedBy>Legion</cp:lastModifiedBy>
  <dcterms:modified xsi:type="dcterms:W3CDTF">2017-07-04T12:56:15Z</dcterms:modified>
  <cp:revision>23</cp:revision>
  <dc:subject/>
  <dc:title>Studying Past Cultures</dc:title>
</cp:coreProperties>
</file>